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191-7FBD-4985-8A09-DF5B9B08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586-5FB7-4E55-A985-D0E1E243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23E-452F-4AB8-9BC7-08C30CCC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8A6-947D-4F05-B671-713A93CE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0C4-2513-45A9-A320-60F994CA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4A2-1311-4860-878A-700586F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6F5-CE0C-45C0-A68F-69A0813B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1C3-EB81-44D8-93B7-8E291801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527-6A2B-4211-94E6-5D835AC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1DF-18C4-4680-A00E-5F3F0EC0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EB9-6792-4B6A-9A20-9D700D97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68E-7C53-4896-9656-65E055E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2189-371C-42EF-8F63-B79826B8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c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1920" y="324000"/>
            <a:ext cx="172872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21000" y="471600"/>
            <a:ext cx="42210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ndballcamp 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4./15.08.201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04640" y="2556000"/>
            <a:ext cx="626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2124000"/>
            <a:ext cx="640872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ilnehm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ädchen und Jungen von 11 – 16 Jah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 50 Teilneh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halle im Bikuz, Frankfurt/Höchst von 10 – 18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ldu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ldeformul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s zum 20.06.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 Fax a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90 / 989390 oder bei den Trainern persönlich abge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liches Konzep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B-Rahmenkonz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sspezifische Trainingszi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elle Schu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leingruppenspi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rainingsblöcke pro 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esablauf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ainingsb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0 – 12.30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tag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rainingsb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0 – 16.00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rainingsb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30 – 18.00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pflegu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tagessen und Getränke werden gestel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ilnehmergebühr: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57240" y="8675640"/>
            <a:ext cx="3372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r freuen uns auf Dich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31:30Z</dcterms:created>
  <dc:creator>----</dc:creator>
  <dc:description/>
  <dc:language>en-US</dc:language>
  <cp:lastModifiedBy>----</cp:lastModifiedBy>
  <dcterms:modified xsi:type="dcterms:W3CDTF">2010-05-04T07:13:20Z</dcterms:modified>
  <cp:revision>3</cp:revision>
  <dc:subject/>
  <dc:title>Folie 1</dc:title>
</cp:coreProperties>
</file>