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CBA-0298-4D9A-BC22-B67E382A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F8F-F875-4161-9389-72265942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DC0-D991-4C78-8094-53FE5764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7D6-3626-4011-9901-5FB3D62D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780-4E86-4086-9ACC-547A04A0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22E-661F-47F2-AE66-CACCB743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E63-7969-478A-9FA5-56B2CAFC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C8A-9D21-4093-92D5-C6AA7B1E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A58-E75F-458F-86AB-688B4127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D9E-1253-4233-AF9C-BCC6F2CD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AB7-0F62-4616-A609-5C5F58CA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CBC-B349-4C32-8F61-CCFC585D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5719-DF46-4A71-9FFE-D8D4E6219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c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1920" y="324000"/>
            <a:ext cx="1728720" cy="1349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21000" y="471600"/>
            <a:ext cx="422100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ndballcamp a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4./15.08.2010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04640" y="2556000"/>
            <a:ext cx="626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2124000"/>
            <a:ext cx="6408720" cy="74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ilnehm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ädchen und Jungen von 11 – 16 Jah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al 50 Teilneh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thalle im Bikuz, Frankfurt/Höchst von 10 – 18 U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meldu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meldeformul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s zum 20.06.20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er Fax a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90 / 989390 oder bei den Trainern persönlich abge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tliches Konzep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B-Rahmenkonz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sspezifische Trainingszi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elle Schu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leingruppenspi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rainingsblöcke pro 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gesablauf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rainingsbloc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0 – 12.30 U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tag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rainingsbloc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0 – 16.00 U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ze 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rainingsbloc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30 – 18.00 U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pflegu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tagessen und Getränke werden gestel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ilnehmergebühr: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57240" y="8675640"/>
            <a:ext cx="33721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ir freuen uns auf Dich.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31:30Z</dcterms:created>
  <dc:creator>----</dc:creator>
  <dc:description/>
  <dc:language>en-US</dc:language>
  <cp:lastModifiedBy>----</cp:lastModifiedBy>
  <dcterms:modified xsi:type="dcterms:W3CDTF">2010-05-04T07:13:20Z</dcterms:modified>
  <cp:revision>3</cp:revision>
  <dc:subject/>
  <dc:title>Folie 1</dc:title>
</cp:coreProperties>
</file>